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25E-15F0-46C7-89EF-5EB8D468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E38-119F-4D7D-A9EF-93EEF2E8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8F4-9BC7-4D45-96E8-7D686743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0C5-9EB0-4826-8B9C-BA6EFBF4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CDB-DA1E-4735-9BA3-1E8E6DFB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3FC-1358-4302-B881-E37F9403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C0B-B5DD-4557-834C-BFCA6FBF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778-DCD0-414D-BC94-A6B06F21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F41-9560-41E4-88DD-737C133E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887-0BE7-4D6E-BA3A-0761B297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9D1-0632-4197-98F7-F00ACD12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7BE-D508-42C2-B636-AD67E9D7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4176-BF55-4D51-A89B-4B2B6C4D6F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684840"/>
        </p:xfrm>
        <a:graphic>
          <a:graphicData uri="http://schemas.openxmlformats.org/drawingml/2006/table">
            <a:tbl>
              <a:tblPr/>
              <a:tblGrid>
                <a:gridCol w="1015920"/>
                <a:gridCol w="677880"/>
                <a:gridCol w="1015920"/>
                <a:gridCol w="676440"/>
                <a:gridCol w="1440000"/>
                <a:gridCol w="1523880"/>
                <a:gridCol w="1015920"/>
                <a:gridCol w="1100160"/>
                <a:gridCol w="677880"/>
              </a:tblGrid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生年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任现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语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过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所在学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申报类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备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644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学工作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讲研究生课程：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门，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讲本科生课程：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门，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导博士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，硕士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，本科生论文：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教学工作量：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时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中课堂授课工作量：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时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均教学工作量：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时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256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科研工作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论    文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共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篇，其中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篇，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篇，核心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篇，其它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篇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著    作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著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部；主编著作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部，参编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科研项目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主持）国家级 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经费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，省部级 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经费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，横向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经费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。（参加）国家级 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经费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，省部级 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经费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，横向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经费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。其他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奖   励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家级奖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，排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；省部级奖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，排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。其他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果（专利）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家级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排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，省部级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排</a:t>
                      </a:r>
                      <a:r>
                        <a:rPr b="0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。其他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14T02:04:5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