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C71-F620-4703-ACFD-C5B49D98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642-8F10-4900-86AC-45ED1DD1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F73-E983-4871-8CA1-D0B491D6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412-CE35-4924-97B0-1AA729A5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6F9-1887-4DA4-9126-9C69338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793-9BC0-4943-8CC1-DB4D826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754-9EF5-4546-8768-C1EB5BF0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391-FEBF-489F-BDF2-D227AADE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B9A-1FE0-4691-B97E-1C0FA55B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806-5EEA-480E-91EC-CFDCAAB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3FC-8297-48AA-BE3C-12FFC68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0C9-903D-4692-BB86-DDB564E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64A7-AF55-472A-AAC9-2EFE15CF5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23080"/>
        </p:xfrm>
        <a:graphic>
          <a:graphicData uri="http://schemas.openxmlformats.org/drawingml/2006/table">
            <a:tbl>
              <a:tblPr/>
              <a:tblGrid>
                <a:gridCol w="914400"/>
                <a:gridCol w="685800"/>
                <a:gridCol w="1143000"/>
                <a:gridCol w="1143000"/>
                <a:gridCol w="1123920"/>
                <a:gridCol w="1509840"/>
                <a:gridCol w="1509480"/>
                <a:gridCol w="111456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生年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现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语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过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申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基础学历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毕业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高学历及毕业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从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考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论    文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其中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核心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，其它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篇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著    作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著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；主编著作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，参编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研项目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主持）国家级 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省部级 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横向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。（参加）国家级 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省部级 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，横向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经费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。其他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奖   励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级奖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，排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；省部级奖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，排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。其他：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果（专利）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级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排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，省部级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，排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。其他：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14T01:58:5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